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A0C-49F1-4CA8-80F9-8C7A479F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88C7-B2D1-4469-8C37-D2ADD0FC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78D-CF35-489E-9F1C-D182DCAB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9E0-87B7-450A-9108-581B451A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567A-B6F4-4731-9814-746126DA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096-B718-4788-96EC-82C348A1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2DE8-E26A-478E-8C26-173EA31A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93D-36EE-4002-AE39-FA9A0787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DB5-7267-4C03-8A27-49A65F34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413-4F2C-4225-AA01-484B88CD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22B8-6048-4335-B5B2-AAA94B90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F8B-EA92-43C4-B1F6-362101D4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8C70-002D-4DA3-A364-E5533C95E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mathgoodies.com/lessons/vol2/circumference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mference of  Cir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stance ar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080" y="1600200"/>
            <a:ext cx="3886200" cy="3733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0492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ula for Circumference of a Circle - 2π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2190600" cy="216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57913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can it also be written as:  C =  π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Circumference of this Cir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1523880"/>
            <a:ext cx="2819520" cy="2667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28195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343400"/>
            <a:ext cx="9144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 start by writing out the appropriate form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= 2π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2514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5867280"/>
            <a:ext cx="2438280" cy="642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the sub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53341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53341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53341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53341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6019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= 2 (3.14)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5638680"/>
            <a:ext cx="2514600" cy="916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e and round off to the nearest hundred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Circumfer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2438280"/>
            <a:ext cx="3429000" cy="312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40384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3581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c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SenteoPPTControl1"/>
          <p:cNvGraphicFramePr/>
          <p:nvPr/>
        </p:nvGraphicFramePr>
        <p:xfrm>
          <a:off x="6350040" y="4699080"/>
          <a:ext cx="27306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SenteoPPTControl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040" y="4699080"/>
                    <a:ext cx="27306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33520" y="48006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8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.68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.3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6280" y="6172200"/>
            <a:ext cx="64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athgoodies.com/lessons/vol2/circumferenc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09:51:08Z</dcterms:created>
  <dc:creator>admin</dc:creator>
  <dc:description/>
  <dc:language>en-US</dc:language>
  <cp:lastModifiedBy>admin</cp:lastModifiedBy>
  <dcterms:modified xsi:type="dcterms:W3CDTF">2008-04-24T10:25:21Z</dcterms:modified>
  <cp:revision>3</cp:revision>
  <dc:subject/>
  <dc:title>Circumference of  Circle </dc:title>
</cp:coreProperties>
</file>